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2A1C-D85C-40D0-8438-C7C577332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F9D4-E323-4BAF-BA50-6DBA1F11E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6443-B680-4207-9F9E-2F245E116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21B9-A69F-47DE-972F-6CB34D1F4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2961-F051-48C6-A4E1-2E39DC8A3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E931-095D-4274-8B0A-60204CE27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39D3-A8BD-493F-91EC-A1898E204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DB5A-3CEF-4C87-BF49-7340D64AE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B3B4-C93B-4230-96EB-B7E59E75A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0BCB-55F4-45A4-A53D-FBF4D9FCB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3102-2D7D-470C-B4D1-9DE999840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F09F-396D-4D8B-A245-E00117801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D7D4F-89E0-4823-9B0E-0BC7560036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 Narrow"/>
              </a:rPr>
              <a:t>Prayer of Adoration (SLD-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66"/>
                </a:solidFill>
                <a:latin typeface="Arial"/>
              </a:rPr>
              <a:t>We praise you, O Go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your humility, you seek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your mercy, you keep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your humiliation, you glorify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1 of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your generosity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 provide for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your wisdom, you place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your might, you shield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2 of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your governanc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you make us hol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your communion, you teach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In your love, you lift us u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A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Based on </a:t>
            </a:r>
            <a:r>
              <a:rPr b="0" i="1" lang="en-US" sz="2400" spc="-1" strike="noStrike">
                <a:solidFill>
                  <a:srgbClr val="bbe0e3"/>
                </a:solidFill>
                <a:latin typeface="Arial"/>
              </a:rPr>
              <a:t>T</a:t>
            </a:r>
            <a:r>
              <a:rPr b="0" i="1" lang="en-US" sz="2400" spc="-1" strike="noStrike">
                <a:solidFill>
                  <a:srgbClr val="bbe0e3"/>
                </a:solidFill>
                <a:latin typeface="Arial"/>
              </a:rPr>
              <a:t>he Nine Choirs: How They Sing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by Mechtild of Magdeburg (1210-128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6324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 Narrow"/>
              </a:rPr>
              <a:t>3 of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24:36Z</dcterms:created>
  <dc:creator>Anon Anon</dc:creator>
  <dc:description/>
  <dc:language>en-US</dc:language>
  <cp:lastModifiedBy>Anon Anon</cp:lastModifiedBy>
  <dcterms:modified xsi:type="dcterms:W3CDTF">2005-08-09T05:45:24Z</dcterms:modified>
  <cp:revision>8</cp:revision>
  <dc:subject/>
  <dc:title>PowerPoint Presentation</dc:title>
</cp:coreProperties>
</file>